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.png" ContentType="image/png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28.wmf" ContentType="image/x-wmf"/>
  <Override PartName="/ppt/media/image70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27.wmf" ContentType="image/x-wmf"/>
  <Override PartName="/ppt/media/image64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1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54.png" ContentType="image/png"/>
  <Override PartName="/ppt/media/image11.wmf" ContentType="image/x-wmf"/>
  <Override PartName="/ppt/media/image48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C52-4C8C-407C-90FB-C53C2B41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A37-9D3D-4C25-84F2-F1EDCFF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D75-9454-415E-BD1B-71A9BB34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E94-0593-4A7A-8CA0-02D28603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F1BC-9344-4B3F-8A26-0E6417A1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976-DABF-4866-8052-56BB7FD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85DE-3514-4B08-B2EE-9DB799BA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E4E-A419-4DE3-91EF-BBECAC9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1FBB-935C-45AE-B31A-CD398E7B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C5DD-68D4-4334-AFB1-05436D5E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D327-20DA-4C21-99DA-60A1E52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A85-B661-4033-AC93-B3147DA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115-A942-401B-9B5D-79171CE9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3944-F5B7-460A-9660-DF4B2AB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DF45-BE64-4720-B21F-E313978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5D0A-8826-4C83-9F4C-7735C662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0B7-574F-43AC-A72C-4507E847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2AF3-76EF-4EDF-9354-78755E06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000B-BDF9-4ACE-8FB1-B0C596F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5584-29E4-4874-B7E9-52FB2384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C1C5-DF72-4256-9941-7E56DED1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67F2-9355-4C45-B127-058583BA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0D0-9373-4A1A-8031-DCCEFD0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21ED-4DE5-4F89-AA50-EF5B5F7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E106-FAEA-4F7E-97C6-295FF71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CE76-B934-430D-A654-6F4536A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FB18-E433-49A5-82A8-A172CE7F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5D52-AAE7-4F8B-83C2-734C1CAB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67CF-6764-4500-AD7F-618EE421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5558-647A-4D2E-9D8C-995BA6DD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8996-68E4-4D16-B9E5-5104E8A8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A105-DAE7-4608-A57F-6521ED0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7C0E-E2C7-4706-849A-70A632A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E44-6398-46AB-AE21-64A289B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B53B-FBDC-48CA-8BAE-9198E7D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94CD-D758-4DD9-8CA0-C79E16E0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F749-5AA1-46D7-B0BB-B4E6DCC5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D761-D15F-4DCD-866C-F3B486A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3647-B0A7-44C7-B52D-F81E90D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CAA9-5A05-417C-AC6B-5D1C79B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3746-E144-4429-879E-D984230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48A3-5AC1-45CD-87A2-FF024A6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B479-4BBE-4D97-83F0-9F6F45C2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B24-7043-4C38-BECD-E457B8E7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A7E-5E3F-4B9D-B57C-37B580C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F87-DC62-4A1F-905D-B1958AF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1D3-D823-47BB-84B1-23A6D8B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F41-5A84-4EC7-B205-6ED13AA4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F665-8CEF-4BDB-BD06-C7FE36576DF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DE5-A57A-4EAA-8609-E0A81F77B83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8DA-7DC2-432F-A056-5EEA39449B4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EA5-3098-4E70-A32F-62AB6C555B7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4.wmf"/><Relationship Id="rId2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2.wmf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f.kg.ac.rs/" TargetMode="External"/><Relationship Id="rId2" Type="http://schemas.openxmlformats.org/officeDocument/2006/relationships/hyperlink" Target="http://www.medf.kg.ac.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одина студ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ски (први) семеста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kule-ова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тео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, стереоизомерија и конформац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 групе и угљоводоничне групе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реакциј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лекулске структуре органских молекул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 састава и промена органских супстанц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ца елемента Х у једињењу ХmYn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 · (валенциони број за Y) / m → (код неорганских једињења нпр. HF, 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O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→ угљеник има неограничен број вредности за валенцу??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1700280"/>
          <a:ext cx="8229600" cy="5029200"/>
        </p:xfrm>
        <a:graphic>
          <a:graphicData uri="http://schemas.openxmlformats.org/drawingml/2006/table">
            <a:tbl>
              <a:tblPr/>
              <a:tblGrid>
                <a:gridCol w="1522440"/>
                <a:gridCol w="259236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ск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пу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веза-цр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Object 2"/>
          <p:cNvGraphicFramePr/>
          <p:nvPr/>
        </p:nvGraphicFramePr>
        <p:xfrm>
          <a:off x="2411280" y="2781360"/>
          <a:ext cx="1641600" cy="15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81360"/>
                    <a:ext cx="164160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"/>
          <p:cNvGraphicFramePr/>
          <p:nvPr/>
        </p:nvGraphicFramePr>
        <p:xfrm>
          <a:off x="2484360" y="4508640"/>
          <a:ext cx="163980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50864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2484360" y="5661000"/>
          <a:ext cx="163980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566100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"/>
          <p:cNvGraphicFramePr/>
          <p:nvPr/>
        </p:nvGraphicFramePr>
        <p:xfrm>
          <a:off x="5003640" y="3284640"/>
          <a:ext cx="12877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284640"/>
                    <a:ext cx="1287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5003640" y="4869000"/>
          <a:ext cx="123192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869000"/>
                    <a:ext cx="123192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5003640" y="5805360"/>
          <a:ext cx="112572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805360"/>
                    <a:ext cx="112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7308720" y="3141720"/>
          <a:ext cx="70812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141720"/>
                    <a:ext cx="708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9"/>
          <p:cNvGraphicFramePr/>
          <p:nvPr/>
        </p:nvGraphicFramePr>
        <p:xfrm>
          <a:off x="7236000" y="4797360"/>
          <a:ext cx="871200" cy="2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6000" y="4797360"/>
                    <a:ext cx="8712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7236000" y="5805360"/>
          <a:ext cx="871200" cy="7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5805360"/>
                    <a:ext cx="871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Object 2"/>
          <p:cNvGraphicFramePr/>
          <p:nvPr/>
        </p:nvGraphicFramePr>
        <p:xfrm>
          <a:off x="2340000" y="1916280"/>
          <a:ext cx="4680000" cy="45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680000" cy="45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4"/>
          <p:cNvSpPr/>
          <p:nvPr/>
        </p:nvSpPr>
        <p:spPr>
          <a:xfrm>
            <a:off x="2708280" y="162864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075560" y="422100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068720" y="6165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781640" y="141300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е пројекцио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171920" y="29973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7165800" y="5373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268360" y="1916280"/>
          <a:ext cx="431964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31964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 има обично у својим једињењима потпуно одређену и сталну валенциону вредност (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 атоми се могу на различите начине везивати међу соб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1619280" y="4221000"/>
          <a:ext cx="579276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21000"/>
                    <a:ext cx="579276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 органском једињењу двогуба или трогуба веза налазе између два суседна атома угљеника → НЕ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у органском једињењу атоми угљеника повезани простим везама, а вишегубе везе постоје између угљеника и хетероатома→ 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С друге стране, сматра се да је засићен угљеников атом само онај који има само просте везе, а незасићен угљеник мора садржати вишегубу везу (без обзира да ли је формира са другим угљеником или хетероатомом)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тако је пропилен незасићено једињење са једним засићеним и два незасићена угљеникова ат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4" descr=""/>
          <p:cNvPicPr/>
          <p:nvPr/>
        </p:nvPicPr>
        <p:blipFill>
          <a:blip r:embed="rId1"/>
          <a:stretch/>
        </p:blipFill>
        <p:spPr>
          <a:xfrm>
            <a:off x="231840" y="1158840"/>
            <a:ext cx="854064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3"/>
          <p:cNvGraphicFramePr/>
          <p:nvPr/>
        </p:nvGraphicFramePr>
        <p:xfrm>
          <a:off x="4356000" y="4365720"/>
          <a:ext cx="2376720" cy="18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365720"/>
                    <a:ext cx="23767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4211640" y="1484280"/>
          <a:ext cx="2808360" cy="19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484280"/>
                    <a:ext cx="280836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омер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 су једињења истог елементалног састава (исте молекулске формуле), а различитих особи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к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једнак, и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2"/>
          <p:cNvGraphicFramePr/>
          <p:nvPr/>
        </p:nvGraphicFramePr>
        <p:xfrm>
          <a:off x="1979640" y="1773360"/>
          <a:ext cx="53355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53355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ounded Rectangle 4"/>
          <p:cNvSpPr/>
          <p:nvPr/>
        </p:nvSpPr>
        <p:spPr>
          <a:xfrm>
            <a:off x="2700360" y="1125360"/>
            <a:ext cx="3959280" cy="57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179280" y="285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076720" y="285264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108000" y="4221000"/>
            <a:ext cx="460836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н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полож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"/>
          <p:cNvSpPr/>
          <p:nvPr/>
        </p:nvSpPr>
        <p:spPr>
          <a:xfrm>
            <a:off x="5148360" y="4221000"/>
            <a:ext cx="388764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вреднује са 6 ЕСП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но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ва активне наста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авања и 2 часа вежб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 (конституционе) форму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ују и број атома у молекулу и начин на који су атоми међу собом веза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ја имају исту молекулску формулу али различите структуре или конституције називај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 (конституциони) изом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ама поја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(конституциона) изом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ontent Placeholder 3" descr=""/>
          <p:cNvPicPr/>
          <p:nvPr/>
        </p:nvPicPr>
        <p:blipFill>
          <a:blip r:embed="rId1"/>
          <a:stretch/>
        </p:blipFill>
        <p:spPr>
          <a:xfrm>
            <a:off x="712800" y="1090440"/>
            <a:ext cx="7547040" cy="52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3"/>
          <p:cNvGraphicFramePr/>
          <p:nvPr/>
        </p:nvGraphicFramePr>
        <p:xfrm>
          <a:off x="2268360" y="1197000"/>
          <a:ext cx="24447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197000"/>
                    <a:ext cx="2444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4"/>
          <p:cNvGraphicFramePr/>
          <p:nvPr/>
        </p:nvGraphicFramePr>
        <p:xfrm>
          <a:off x="2268360" y="2205000"/>
          <a:ext cx="252756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2205000"/>
                    <a:ext cx="2527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2268360" y="3357720"/>
          <a:ext cx="25084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3357720"/>
                    <a:ext cx="25084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2268360" y="4292640"/>
          <a:ext cx="3743640" cy="53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4292640"/>
                    <a:ext cx="3743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2268360" y="5229360"/>
          <a:ext cx="463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5229360"/>
                    <a:ext cx="463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труктура органских једињења (физичке и хемијске методе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536400" y="1542960"/>
            <a:ext cx="7643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хем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хемије који проучава просторни распоред атома у молекулу и просторни облик молекула (конфигурацију и конформацију молекула), као и утицај ових просторних особина на хемијско и физичко понашање једињења назива се стереохемиј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971640" y="1413000"/>
            <a:ext cx="72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тродимензионални распоред атома у основном стању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просторне односе атома у молекулима ток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ска из једног стањ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, нпр. током хем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молекула обухва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у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, број и редослед везивањ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 атома у молекул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игур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е који се не мож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ти *без раскидања постојећих и успостаљања нових хемијских вез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главно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изомер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рста изомерије потиче услед различитог просторног распореда атома у молекулу, тј. услед различите конфигурације молекула и назива се стереоизомерија (просторна изомерија), а изомери који имају исту структуру али се разликују по конфигурацији зову се стереоизомер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1476360" y="5229360"/>
          <a:ext cx="29671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229360"/>
                    <a:ext cx="2967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076720" y="5229360"/>
          <a:ext cx="2764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229360"/>
                    <a:ext cx="2764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орм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слободне ротације око простих веза и извесне покретљивости (савитљивости) углова између појединих веза, један исти молекул, тј. молекул сасвим одређене конституције и конфигурације, може заузимати различите облике у простору. Ови различити просторни облици једног мелекула познати су под именом конформациј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1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1773360"/>
          <a:ext cx="8218440" cy="435924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ска (етиленска или олефин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ксил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ска (ацети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арска (оксид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о-(нитрил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илна (алдехидна; кет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ксил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огенид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ар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2987640" y="2276640"/>
          <a:ext cx="974880" cy="40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76640"/>
                    <a:ext cx="9748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2987640" y="3068640"/>
          <a:ext cx="974880" cy="1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068640"/>
                    <a:ext cx="97488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2700360" y="3500280"/>
          <a:ext cx="15955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3500280"/>
                    <a:ext cx="1595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2771640" y="4437000"/>
          <a:ext cx="1595520" cy="1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4437000"/>
                    <a:ext cx="15955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2843280" y="4941720"/>
          <a:ext cx="12859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4941720"/>
                    <a:ext cx="1285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2771640" y="5661000"/>
          <a:ext cx="1494000" cy="2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5661000"/>
                    <a:ext cx="14940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7380360" y="2349360"/>
          <a:ext cx="519120" cy="14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2349360"/>
                    <a:ext cx="5191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1"/>
          <p:cNvGraphicFramePr/>
          <p:nvPr/>
        </p:nvGraphicFramePr>
        <p:xfrm>
          <a:off x="7308720" y="2997360"/>
          <a:ext cx="663840" cy="14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2997360"/>
                    <a:ext cx="66384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3"/>
          <p:cNvGraphicFramePr/>
          <p:nvPr/>
        </p:nvGraphicFramePr>
        <p:xfrm>
          <a:off x="6875640" y="4149720"/>
          <a:ext cx="1657080" cy="674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5640" y="4149720"/>
                    <a:ext cx="1657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7236000" y="4941720"/>
          <a:ext cx="828360" cy="459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4941720"/>
                    <a:ext cx="8283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6"/>
          <p:cNvGraphicFramePr/>
          <p:nvPr/>
        </p:nvGraphicFramePr>
        <p:xfrm>
          <a:off x="7236000" y="5589720"/>
          <a:ext cx="820440" cy="460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3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6000" y="5589720"/>
                    <a:ext cx="8204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27"/>
          <p:cNvGraphicFramePr/>
          <p:nvPr/>
        </p:nvGraphicFramePr>
        <p:xfrm>
          <a:off x="7236000" y="3645000"/>
          <a:ext cx="722160" cy="147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6000" y="3645000"/>
                    <a:ext cx="722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5280" y="2421000"/>
          <a:ext cx="8319960" cy="2297160"/>
        </p:xfrm>
        <a:graphic>
          <a:graphicData uri="http://schemas.openxmlformats.org/drawingml/2006/table">
            <a:tbl>
              <a:tblPr/>
              <a:tblGrid>
                <a:gridCol w="2665440"/>
                <a:gridCol w="3311640"/>
                <a:gridCol w="2342880"/>
              </a:tblGrid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и през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 адр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zivkovic@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а Ж. Мијајл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na.mijajlov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ош В.Никол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os.nikol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2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39640" y="1989000"/>
          <a:ext cx="8218440" cy="384048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апто- (тиолна или сулфхидрил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циј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окс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он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Object 14"/>
          <p:cNvGraphicFramePr/>
          <p:nvPr/>
        </p:nvGraphicFramePr>
        <p:xfrm>
          <a:off x="3059280" y="2565360"/>
          <a:ext cx="718920" cy="1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718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5"/>
          <p:cNvGraphicFramePr/>
          <p:nvPr/>
        </p:nvGraphicFramePr>
        <p:xfrm>
          <a:off x="3132000" y="3213000"/>
          <a:ext cx="663840" cy="1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213000"/>
                    <a:ext cx="66384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6"/>
          <p:cNvGraphicFramePr/>
          <p:nvPr/>
        </p:nvGraphicFramePr>
        <p:xfrm>
          <a:off x="2987640" y="3860640"/>
          <a:ext cx="974880" cy="1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860640"/>
                    <a:ext cx="974880" cy="1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7"/>
          <p:cNvGraphicFramePr/>
          <p:nvPr/>
        </p:nvGraphicFramePr>
        <p:xfrm>
          <a:off x="3132000" y="4365720"/>
          <a:ext cx="663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365720"/>
                    <a:ext cx="663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8"/>
          <p:cNvGraphicFramePr/>
          <p:nvPr/>
        </p:nvGraphicFramePr>
        <p:xfrm>
          <a:off x="3132000" y="5013360"/>
          <a:ext cx="663840" cy="77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013360"/>
                    <a:ext cx="6638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9"/>
          <p:cNvGraphicFramePr/>
          <p:nvPr/>
        </p:nvGraphicFramePr>
        <p:xfrm>
          <a:off x="7308720" y="2421000"/>
          <a:ext cx="7192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2421000"/>
                    <a:ext cx="719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0"/>
          <p:cNvGraphicFramePr/>
          <p:nvPr/>
        </p:nvGraphicFramePr>
        <p:xfrm>
          <a:off x="7308720" y="3068640"/>
          <a:ext cx="7192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068640"/>
                    <a:ext cx="719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21"/>
          <p:cNvGraphicFramePr/>
          <p:nvPr/>
        </p:nvGraphicFramePr>
        <p:xfrm>
          <a:off x="7308720" y="3716280"/>
          <a:ext cx="6620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3716280"/>
                    <a:ext cx="662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2"/>
          <p:cNvGraphicFramePr/>
          <p:nvPr/>
        </p:nvGraphicFramePr>
        <p:xfrm>
          <a:off x="7308720" y="4365720"/>
          <a:ext cx="72252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5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08720" y="4365720"/>
                    <a:ext cx="7225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3"/>
          <p:cNvGraphicFramePr/>
          <p:nvPr/>
        </p:nvGraphicFramePr>
        <p:xfrm>
          <a:off x="7236000" y="5300640"/>
          <a:ext cx="973080" cy="14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7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5300640"/>
                    <a:ext cx="97308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1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67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3203640" y="3357720"/>
          <a:ext cx="936720" cy="18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357720"/>
                    <a:ext cx="93672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2987640" y="3933720"/>
          <a:ext cx="1440000" cy="4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933720"/>
                    <a:ext cx="1440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"/>
          <p:cNvGraphicFramePr/>
          <p:nvPr/>
        </p:nvGraphicFramePr>
        <p:xfrm>
          <a:off x="2987640" y="4653000"/>
          <a:ext cx="144144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653000"/>
                    <a:ext cx="14414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2987640" y="5229360"/>
          <a:ext cx="1441440" cy="80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5229360"/>
                    <a:ext cx="1441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3059280" y="6054840"/>
          <a:ext cx="1182600" cy="80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6054840"/>
                    <a:ext cx="11826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9"/>
          <p:cNvGraphicFramePr/>
          <p:nvPr/>
        </p:nvGraphicFramePr>
        <p:xfrm>
          <a:off x="7524720" y="3357720"/>
          <a:ext cx="549360" cy="18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24720" y="3357720"/>
                    <a:ext cx="549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"/>
          <p:cNvGraphicFramePr/>
          <p:nvPr/>
        </p:nvGraphicFramePr>
        <p:xfrm>
          <a:off x="7380360" y="4005360"/>
          <a:ext cx="782640" cy="350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4005360"/>
                    <a:ext cx="782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1"/>
          <p:cNvGraphicFramePr/>
          <p:nvPr/>
        </p:nvGraphicFramePr>
        <p:xfrm>
          <a:off x="7380360" y="4797360"/>
          <a:ext cx="782640" cy="181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80360" y="4797360"/>
                    <a:ext cx="7826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2"/>
          <p:cNvGraphicFramePr/>
          <p:nvPr/>
        </p:nvGraphicFramePr>
        <p:xfrm>
          <a:off x="7308720" y="5229360"/>
          <a:ext cx="895320" cy="777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8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08720" y="5229360"/>
                    <a:ext cx="8953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3"/>
          <p:cNvGraphicFramePr/>
          <p:nvPr/>
        </p:nvGraphicFramePr>
        <p:xfrm>
          <a:off x="7236000" y="6165720"/>
          <a:ext cx="1160280" cy="573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0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236000" y="6165720"/>
                    <a:ext cx="1160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52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12"/>
          <p:cNvGraphicFramePr/>
          <p:nvPr/>
        </p:nvGraphicFramePr>
        <p:xfrm>
          <a:off x="3132000" y="3357720"/>
          <a:ext cx="1347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3357720"/>
                    <a:ext cx="1347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13"/>
          <p:cNvGraphicFramePr/>
          <p:nvPr/>
        </p:nvGraphicFramePr>
        <p:xfrm>
          <a:off x="3276720" y="5013360"/>
          <a:ext cx="799920" cy="14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013360"/>
                    <a:ext cx="799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4"/>
          <p:cNvGraphicFramePr/>
          <p:nvPr/>
        </p:nvGraphicFramePr>
        <p:xfrm>
          <a:off x="3203640" y="6165720"/>
          <a:ext cx="939600" cy="1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6165720"/>
                    <a:ext cx="939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5"/>
          <p:cNvGraphicFramePr/>
          <p:nvPr/>
        </p:nvGraphicFramePr>
        <p:xfrm>
          <a:off x="7380360" y="3716280"/>
          <a:ext cx="871560" cy="17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1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3716280"/>
                    <a:ext cx="8715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6"/>
          <p:cNvGraphicFramePr/>
          <p:nvPr/>
        </p:nvGraphicFramePr>
        <p:xfrm>
          <a:off x="7164360" y="4724280"/>
          <a:ext cx="1347840" cy="18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3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64360" y="4724280"/>
                    <a:ext cx="1347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7"/>
          <p:cNvGraphicFramePr/>
          <p:nvPr/>
        </p:nvGraphicFramePr>
        <p:xfrm>
          <a:off x="7236000" y="5445000"/>
          <a:ext cx="1104840" cy="18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5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5445000"/>
                    <a:ext cx="1104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8"/>
          <p:cNvGraphicFramePr/>
          <p:nvPr/>
        </p:nvGraphicFramePr>
        <p:xfrm>
          <a:off x="7093080" y="6165720"/>
          <a:ext cx="1577880" cy="182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7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93080" y="6165720"/>
                    <a:ext cx="157788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3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валентне и тр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55640" y="2133720"/>
          <a:ext cx="7777080" cy="4392360"/>
        </p:xfrm>
        <a:graphic>
          <a:graphicData uri="http://schemas.openxmlformats.org/drawingml/2006/table">
            <a:tbl>
              <a:tblPr/>
              <a:tblGrid>
                <a:gridCol w="1800360"/>
                <a:gridCol w="2130480"/>
                <a:gridCol w="1671480"/>
                <a:gridCol w="2174760"/>
              </a:tblGrid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- (или бензилид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тилен- (етил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проп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Object 12"/>
          <p:cNvGraphicFramePr/>
          <p:nvPr/>
        </p:nvGraphicFramePr>
        <p:xfrm>
          <a:off x="3276720" y="3141720"/>
          <a:ext cx="73476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41720"/>
                    <a:ext cx="7347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3"/>
          <p:cNvGraphicFramePr/>
          <p:nvPr/>
        </p:nvGraphicFramePr>
        <p:xfrm>
          <a:off x="3059280" y="3860640"/>
          <a:ext cx="113796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860640"/>
                    <a:ext cx="113796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4"/>
          <p:cNvGraphicFramePr/>
          <p:nvPr/>
        </p:nvGraphicFramePr>
        <p:xfrm>
          <a:off x="3059280" y="4508640"/>
          <a:ext cx="1090440" cy="1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4508640"/>
                    <a:ext cx="10904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5"/>
          <p:cNvGraphicFramePr/>
          <p:nvPr/>
        </p:nvGraphicFramePr>
        <p:xfrm>
          <a:off x="3059280" y="5300640"/>
          <a:ext cx="110628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5300640"/>
                    <a:ext cx="11062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6"/>
          <p:cNvGraphicFramePr/>
          <p:nvPr/>
        </p:nvGraphicFramePr>
        <p:xfrm>
          <a:off x="3203640" y="5950080"/>
          <a:ext cx="79992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5950080"/>
                    <a:ext cx="799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7"/>
          <p:cNvGraphicFramePr/>
          <p:nvPr/>
        </p:nvGraphicFramePr>
        <p:xfrm>
          <a:off x="7093080" y="3141720"/>
          <a:ext cx="7538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3141720"/>
                    <a:ext cx="753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7236000" y="3860640"/>
          <a:ext cx="420480" cy="14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3860640"/>
                    <a:ext cx="42048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19"/>
          <p:cNvGraphicFramePr/>
          <p:nvPr/>
        </p:nvGraphicFramePr>
        <p:xfrm>
          <a:off x="7164360" y="4581360"/>
          <a:ext cx="649440" cy="1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4581360"/>
                    <a:ext cx="649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0"/>
          <p:cNvGraphicFramePr/>
          <p:nvPr/>
        </p:nvGraphicFramePr>
        <p:xfrm>
          <a:off x="6948360" y="5300640"/>
          <a:ext cx="1046160" cy="147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8360" y="5300640"/>
                    <a:ext cx="1046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спериментални услов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ло ниских температура (испод – 100˚С) до 1000˚ и више степени и под притиском од неколико милиметара (живиног стуба) до преко хиљаду атмосфера; у гасној, течној или чврстој фази као и на површини активних супстанци; под утицајем обичне светлости, ултраљубичастих зракова, ултразвука и других радијација, па и у потпуном мраку, у времену трајања које може да варира од незнатног дела секунде до неколико месеци па чак и год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нтитативне реакције у органској хемији су ретке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80 – 90 % → врло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50 – 60 % →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20 –30 % → задовољавајућ (у неким случајевим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ограничавају принос органских реакциј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главне реакције одигравају се и друге споредне реак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експерименталних ус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аспадања органских молекула или полимеризација уз потенцијално стварање рђаво дефинисаних произво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ост извесних реак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а катализатора ради убрзања тока реак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 органске реакције су веома споре, па су експериментално готово неизводљиве без присуства катализат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и учествују у реакцијама, али се на крају регенеришу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еност структуре реактаната и производа реакциј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1700280"/>
          <a:ext cx="8501040" cy="4157640"/>
        </p:xfrm>
        <a:graphic>
          <a:graphicData uri="http://schemas.openxmlformats.org/drawingml/2006/table">
            <a:tbl>
              <a:tblPr/>
              <a:tblGrid>
                <a:gridCol w="758520"/>
                <a:gridCol w="3365640"/>
                <a:gridCol w="700200"/>
                <a:gridCol w="1008000"/>
                <a:gridCol w="936720"/>
                <a:gridCol w="1731960"/>
              </a:tblGrid>
              <a:tr h="71892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вања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 у малој групи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а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д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едмет по модулима. Оцена је еквивалентна броју освојених поена (в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еле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и се стичу 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У ТОКУ НАСТАВ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освојити до 30 поена и то тако што на последњем часу рада у малој групи извлачи 2 испитна питања из те недеље наставе, одговара на њих и у складу са показаним знањем добија 0-2 поена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ТЕСТОВИ ПО МОДУЛУМ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стећи до 70 поена а према приложеној таб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714680"/>
          <a:ext cx="8464320" cy="3803400"/>
        </p:xfrm>
        <a:graphic>
          <a:graphicData uri="http://schemas.openxmlformats.org/drawingml/2006/table">
            <a:tbl>
              <a:tblPr/>
              <a:tblGrid>
                <a:gridCol w="363600"/>
                <a:gridCol w="4389120"/>
                <a:gridCol w="2032200"/>
                <a:gridCol w="1168200"/>
                <a:gridCol w="511200"/>
              </a:tblGrid>
              <a:tr h="433080">
                <a:tc gridSpan="2" row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т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grid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250920" y="5805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активност у току наставе за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модул је неопходно да оствари минимално 6/10 поена ! !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ршна оцена се формира на следећи начи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предмет мора да оствари минимум 55 бодова и да положи све модул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положио модул студент мора д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на том модул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предвиђених за активност у настави 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мањ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на за сваки модул посебно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да положи тест из тог модула, односно да има више од 50% тачних одгово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71760" y="2428920"/>
          <a:ext cx="5429160" cy="3002040"/>
        </p:xfrm>
        <a:graphic>
          <a:graphicData uri="http://schemas.openxmlformats.org/drawingml/2006/table">
            <a:tbl>
              <a:tblPr/>
              <a:tblGrid>
                <a:gridCol w="4108320"/>
                <a:gridCol w="1320840"/>
              </a:tblGrid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својених 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-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- 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-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79280" y="1125360"/>
          <a:ext cx="8715600" cy="5073840"/>
        </p:xfrm>
        <a:graphic>
          <a:graphicData uri="http://schemas.openxmlformats.org/drawingml/2006/table">
            <a:tbl>
              <a:tblPr/>
              <a:tblGrid>
                <a:gridCol w="500040"/>
                <a:gridCol w="2643480"/>
                <a:gridCol w="1428480"/>
                <a:gridCol w="1428840"/>
                <a:gridCol w="1500120"/>
                <a:gridCol w="1214640"/>
              </a:tblGrid>
              <a:tr h="500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џб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в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14637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хемију хетероцикличних једињ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Пав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зитет у Београду, Фармацеутски факултет, Београд, 199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65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на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ска хе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C. Voillhardt, N. E. Sc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јдиграф, Београд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99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gridSpan="6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 предавања налазе се на сајту Факултета медицинских наука: </a:t>
                      </a:r>
                      <a:r>
                        <a:rPr b="0" lang="ru-RU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medf.kg.ac.</a:t>
                      </a:r>
                      <a:r>
                        <a:rPr b="0" lang="fr-FR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нсултације са студентима  сваког уторка од </a:t>
                      </a:r>
                      <a:r>
                        <a:rPr b="1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12.00 до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cp:lastPrinted>2016-09-05T00:13:55Z</cp:lastPrinted>
  <dcterms:modified xsi:type="dcterms:W3CDTF">2017-08-29T13:18:01Z</dcterms:modified>
  <cp:revision>242</cp:revision>
  <dc:subject/>
  <dc:title>Slide 1</dc:title>
</cp:coreProperties>
</file>